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1204-9588-4D41-878D-A367DDE9E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9730-8D2D-4948-BC11-9600F1C7D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0D8A-9B36-4F72-97D8-3A00A0D8B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C285-4912-486C-85EC-266DD4553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22737-41E9-43C4-93D1-94E0EF274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7D726-73A5-4F53-BDF3-6FF0EB15F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B0A7E-FEEF-4AA6-B6FA-BD7CCA69C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83A22-7083-4FFE-BAF5-2651E2D5C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0AA2A-1F68-460C-981A-CDFBB5C21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14A93-F375-4AD2-A081-70C59AB26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6E547-B40D-410F-A0B8-5F424E4D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1806-F121-4EB7-A1C9-8AC5E8CE3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D4074-123A-404F-A752-27A07CC5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205DE-43DD-43B8-ABA7-D40BF125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EB2F9-EFF2-4588-8852-36C93395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AB5FA-7A70-4BB9-8D8C-5CD6C4B4C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8BF24-7A17-42B3-A643-C7F4AF890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55F8-6B62-4DC9-8CB3-A9E3D2C5A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401F-036E-45FB-BA5D-4B0CF3419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71FE-71D7-4343-85E8-0284FCF6C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15AF-9F4D-46E1-BA92-9DA59C062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1EDB-93B5-48CE-91A7-D5FD4E2A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DF5B-51C3-4B0B-9E68-631A4EA5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85EB-7F62-4884-9F50-B52B3BFA3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1D3CE-937A-4DAC-86F5-61867C38ADF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F4560-1CBB-41D5-A890-A55C0B37134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hyperlink" Target="http://www.freeplaymusic.com/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hyperlink" Target="http://web.mit.edu/invent/iow/frysilver.html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 rot="21289200">
            <a:off x="1599840" y="1294920"/>
            <a:ext cx="7978680" cy="262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Impact"/>
              </a:rPr>
              <a:t>Post-it Not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Impact"/>
              <a:ea typeface="Impact"/>
            </a:endParaRPr>
          </a:p>
        </p:txBody>
      </p:sp>
      <p:sp>
        <p:nvSpPr>
          <p:cNvPr id="86" name=""/>
          <p:cNvSpPr/>
          <p:nvPr/>
        </p:nvSpPr>
        <p:spPr>
          <a:xfrm>
            <a:off x="7162920" y="4800600"/>
            <a:ext cx="17524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an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day, September 27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43800" y="1981080"/>
            <a:ext cx="99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p 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324480" y="0"/>
            <a:ext cx="2514600" cy="17254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200400" y="5486400"/>
            <a:ext cx="36576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: free play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and Mine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esday, October 05, 2010, </a:t>
            </a:r>
            <a:r>
              <a:rPr b="0" lang="en-US" sz="1800" spc="-1" strike="noStrike" u="sng">
                <a:solidFill>
                  <a:srgbClr val="e4005c"/>
                </a:solidFill>
                <a:uFillTx/>
                <a:latin typeface="Arial"/>
                <a:hlinkClick r:id="rId4"/>
              </a:rPr>
              <a:t>http://www.freeplaymusic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4343400" y="5257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198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INVENTION: Post-it Note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-it Notes are one of the most commonly used piece of office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were created in the early 1970’s by a man named Arthur L. F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-its can be any shape or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Post-its have a small strip of an adhesive created by Spencer F. Silver in 196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257800" y="5486400"/>
            <a:ext cx="1173240" cy="12034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INVENTOR: Arthur Fry / </a:t>
            </a:r>
            <a:br>
              <a:rPr sz="3200"/>
            </a:b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Spencer Silver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hur Fry was born in Minneso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 went to the University of Minneso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 retired in the 1990’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ncer Silver was born in San Anton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majored in chemistry at Arizona State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also created the adhesive on post-it no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Art"/>
          <p:cNvPicPr/>
          <p:nvPr/>
        </p:nvPicPr>
        <p:blipFill>
          <a:blip r:embed="rId1"/>
          <a:stretch/>
        </p:blipFill>
        <p:spPr>
          <a:xfrm>
            <a:off x="228600" y="304920"/>
            <a:ext cx="3670200" cy="48006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Spencer"/>
          <p:cNvPicPr/>
          <p:nvPr/>
        </p:nvPicPr>
        <p:blipFill>
          <a:blip r:embed="rId2"/>
          <a:stretch/>
        </p:blipFill>
        <p:spPr>
          <a:xfrm>
            <a:off x="4876920" y="1371600"/>
            <a:ext cx="3676680" cy="49719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200400" y="6324480"/>
            <a:ext cx="106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81480" y="0"/>
            <a:ext cx="3962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meloons MIT program,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RT FRY &amp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PENCER SILV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Wednesday, September 29, 2010, </a:t>
            </a:r>
            <a:r>
              <a:rPr b="0" lang="en-US" sz="1600" spc="-1" strike="noStrike" u="sng">
                <a:solidFill>
                  <a:srgbClr val="e4005c"/>
                </a:solidFill>
                <a:uFillTx/>
                <a:latin typeface="Arial"/>
                <a:hlinkClick r:id="rId3"/>
              </a:rPr>
              <a:t>http://web.mit.edu/invent/iow/frysilver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7T17:34:07Z</dcterms:created>
  <dc:creator>install</dc:creator>
  <dc:description/>
  <dc:language>en-US</dc:language>
  <cp:lastModifiedBy>install</cp:lastModifiedBy>
  <dcterms:modified xsi:type="dcterms:W3CDTF">2010-10-13T18:06:31Z</dcterms:modified>
  <cp:revision>13</cp:revision>
  <dc:subject/>
  <dc:title>Slide 1</dc:title>
</cp:coreProperties>
</file>